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A84-C5E7-45AB-883D-3A6799FA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AD2-150B-4569-9336-0B54012C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9CD-9A9E-4298-A1D2-A997F734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501-828C-49FD-AF54-2281CB5E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900-33DC-4B5A-81C0-74EA1B5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B01-CB33-49A1-9DA5-297A6FA2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CC0-BF22-4A37-88CC-618D6117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D64-F835-4679-80A6-3F925A30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F06-0CE5-4C4D-A820-B993D48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2BB-E257-40A8-866C-DB2D02BC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7D5-53C6-4E4E-8C24-859BC40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2F4-34DF-4F63-9C29-12B77EA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D891-647F-49AA-8E48-C557CE98D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Us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p 5 countr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.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.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.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. New Zea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3448080"/>
            <a:ext cx="5105520" cy="34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18:20Z</dcterms:created>
  <dc:creator>Wellcare User</dc:creator>
  <dc:description/>
  <dc:language>en-US</dc:language>
  <cp:lastModifiedBy>Wellcare User</cp:lastModifiedBy>
  <dcterms:modified xsi:type="dcterms:W3CDTF">2009-11-09T03:32:57Z</dcterms:modified>
  <cp:revision>3</cp:revision>
  <dc:subject/>
  <dc:title>Geothermal Usage!</dc:title>
</cp:coreProperties>
</file>